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583-26FB-4A2D-B535-A1D33707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9312-5719-4975-AE21-B77809F4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CA5-0920-4749-B233-07C7AAC2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272A-E560-4ADA-86EE-DABBC8B5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DF06-6B4C-4FBA-B591-FA248FE1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A270-CA7B-4713-9681-0998A7D2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4457-B4BB-4564-89A6-928D96EB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185-D8FC-42F5-9788-C6BF4C37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4546-C671-4C9D-AAAE-D821407F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7D1-68A5-4BC5-9474-3DF87840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CF0-8B81-4FB4-90AA-19C078A9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EF5-3077-4065-B602-3893110F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6665-8302-4D52-A705-B00DE78E0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2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your holy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honour and glory are you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w and for 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lessing and hon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glory and pow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yours for ever and e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15:51Z</dcterms:created>
  <dc:creator>Anon Anon</dc:creator>
  <dc:description/>
  <dc:language>en-US</dc:language>
  <cp:lastModifiedBy>Anon Anon</cp:lastModifiedBy>
  <dcterms:modified xsi:type="dcterms:W3CDTF">2005-08-09T05:24:45Z</dcterms:modified>
  <cp:revision>11</cp:revision>
  <dc:subject/>
  <dc:title>PowerPoint Presentation</dc:title>
</cp:coreProperties>
</file>